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A0D59-B0D9-47CA-848B-E9E6CE113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89DBF-4A35-42D3-AE2D-B0F610514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9DFC9-0F8B-45DF-B9BC-B469AE026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5E4DD-F9F5-48AE-A614-D292F85B7C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855A-5FE1-4B83-84C4-A02E611A3B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1C34A-12D1-42B8-A879-D4F3F9E68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EF45E-08F2-4363-83AC-4861109FC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4961D-CDDF-4C3C-BED4-0A8534087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AC2B8-0896-4E00-9D01-6C0B87403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CB0D8-7278-4E3A-B73D-A8FB629B2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1039B-69EB-43E3-BAD5-7BED21071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3F622-8CE2-4CCF-81BD-4593D7D32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.2-</a:t>
            </a:r>
            <a:fld id="{3CA5C3A0-5F0C-4B07-98E9-0BFBCBF14F5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2200" y="1622520"/>
            <a:ext cx="783900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146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st perfect indicativ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pretérito pluscuamperfecto de indicativ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used to talk about what someo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d do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d occur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another past action, event, or state. Like the present perfect, the past perfect uses a form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in this case, the imperfect—plus the past partici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6560" y="1581120"/>
            <a:ext cx="1676520" cy="56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A36D0-92E2-42E8-A349-55E353C280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19280"/>
            <a:ext cx="8229600" cy="3306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4998960"/>
            <a:ext cx="8229600" cy="98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D5184-5EB3-4481-9979-89F739A488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st perfect is often used with the wor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rea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indicate that an action, event, or state had already occurred before another. Remember that, unlike its English equivalent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be placed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past partici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4403880"/>
            <a:ext cx="82296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AB6B6-B7AC-4978-9991-1D8408C8E7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¡Atención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st perfect is often us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njunction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es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es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to describe when the action(s) occur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3473280"/>
            <a:ext cx="822960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7896-55E2-41E4-9D2C-E98C1BD77E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19240" y="2157480"/>
          <a:ext cx="8704080" cy="4037040"/>
        </p:xfrm>
        <a:graphic>
          <a:graphicData uri="http://schemas.openxmlformats.org/drawingml/2006/table">
            <a:tbl>
              <a:tblPr/>
              <a:tblGrid>
                <a:gridCol w="8704080"/>
              </a:tblGrid>
              <a:tr h="1078920">
                <a:tc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 el pretérito pluscuamperfecto de indicativo de cada verbo</a:t>
                      </a: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</a:tr>
              <a:tr h="297756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457200" indent="-457200">
                        <a:spcBef>
                          <a:spcPts val="7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 ya __________________ (cenar) cuando nos llamar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7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s de tomar esta clase, yo no __________ (estudiar) nunca </a:t>
                      </a:r>
                      <a:br>
                        <a:rPr sz="2000"/>
                      </a:b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españo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7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s de ir a México, ellos nunca __________ (ir) a otro paí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7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ardo nunca __________ (entrenarse) tanto en invier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7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 siempre __________ (llevar) una vida sana antes del año pas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7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s de conocerte, yo ya te __________ (ver) muchas ve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627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16600" y="33256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ff"/>
                </a:solidFill>
                <a:latin typeface="Comic Sans MS"/>
              </a:rPr>
              <a:t>habíamos ce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86409-F9F4-4EDC-BBFD-041EB34227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awagner</cp:lastModifiedBy>
  <dcterms:modified xsi:type="dcterms:W3CDTF">2007-03-29T17:51:59Z</dcterms:modified>
  <cp:revision>69</cp:revision>
  <dc:subject/>
  <dc:title>PowerPoint Presentation</dc:title>
</cp:coreProperties>
</file>